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E3B5-8042-4ED6-AE4D-04EC6F5E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682-08A4-42CB-85C5-4B74062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0C8-1CA1-4BDB-B9A3-0A8CA540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565-AD98-49E3-A5DE-3ADC7415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426-5CFB-4D82-AD82-CE0B80F3D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8F41-89DE-4F45-A206-E4F9BC15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0147-FBF8-4A56-8CEA-28BE92C5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7CF6-4E9B-48D2-8815-24D74A31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42DD-8E99-429A-9D52-16F30988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F4A7-7684-4531-AE1B-9CFA0722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72E-4E04-4311-ACA4-F1E20E4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AC6-24DE-4F1A-B882-ABFBA04B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D8E-D1C7-4B29-923D-D4D56C0C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03D4-83D1-4253-991D-F97E95A9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72A4-AF7B-41FB-92C1-714DE5E5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245B-D573-491E-A395-68313169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1FAF-5CCE-4AE8-9CE3-DDB63279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1EF5-C50E-4521-824F-97824C45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0A56-3B69-4EA2-A584-DED73C51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CC8-EBFB-4D21-B5DC-13F82331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C19-8CF7-4864-8478-7E8FC1D0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E585-A94D-4519-88FC-CBFD0C0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49D-E1CD-439C-9A7E-D7FE140E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707D-1876-477C-81DC-37F07FFB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07CC-E9CB-466B-BBF6-435B7505F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2D4-1A4A-46E7-A410-0E1E1787D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02612"/>
                </a:solidFill>
                <a:latin typeface="Times New Roman"/>
              </a:rPr>
              <a:t>Earthquak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By Josh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C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How they happ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. They form when plates move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2. It depends how far the plates move apart to how powerful the earthquake will b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40384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Times New Roman"/>
              </a:rPr>
              <a:t>Fault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Normal faults cause tension in the earth’s crust pulls rock apar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Reverse faults are places in the rocks crust that are pushed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trike slip fault is a fault that when plates move past each other and start shea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Times New Roman"/>
              </a:rPr>
              <a:t>Sorry I cant fit a picture =[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Stres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ension stress is a stress that pulls on the c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ompression stress is stress that squeezes rock until it folds or brea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hearing is stress that pushes a mass of rock in two opposite direc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orry that again I cant fit a picture =[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Folding Earths Crus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ometimes plate movement causes the crust to fol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or example have you ever skidded on a rug that wrinkled as your feet pushed it across the floor? If so that’s what folding the crust is lik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5029200" y="426708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00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ension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ion is a type of stress that constantly is pulling on the earth’s cru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4864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9:05:38Z</dcterms:created>
  <dc:creator>joshuaanderson</dc:creator>
  <dc:description/>
  <dc:language>en-US</dc:language>
  <cp:lastModifiedBy>codybaker</cp:lastModifiedBy>
  <dcterms:modified xsi:type="dcterms:W3CDTF">2008-02-11T19:32:13Z</dcterms:modified>
  <cp:revision>6</cp:revision>
  <dc:subject/>
  <dc:title>Earthquakes</dc:title>
</cp:coreProperties>
</file>